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525B-9063-40E5-8728-C6401E790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098F-EE8A-4610-ABD6-B06AEDC1F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12F7-A391-427D-8525-68B1AA0E3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4FE4-A5B0-42EA-9B39-296CCA162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DE66-DC3D-4E34-BB51-3F4E26C8B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D7A6-35C7-40C4-8A26-9E9A556B9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A381-4648-4AA3-82DC-288189C71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EDD3-73C7-4677-AC72-FD4E00A66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2A5C-0ED8-4254-9B20-59B2A694A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F193-B9D9-473C-9008-748EC3EBB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6A56-69C7-4D81-BA82-700CC6D3A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368F-AD4E-437D-AB4C-110F090E6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397C36F9-9709-472B-9725-8EDDF89DB71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429000" cy="11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Population Growth and Economic Development: Causes, Consequences, </a:t>
            </a:r>
            <a:br>
              <a:rPr sz="3200"/>
            </a:b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and Controver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33E06796-3DEA-42F2-941D-E9B25A70D64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3 The Population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fig06_03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96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B0AD74EC-89D9-426F-96ED-3F91F93791A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6.3 Fertility Rate for Selected Countries, 1970 and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bl06_03"/>
          <p:cNvPicPr/>
          <p:nvPr/>
        </p:nvPicPr>
        <p:blipFill>
          <a:blip r:embed="rId1"/>
          <a:stretch/>
        </p:blipFill>
        <p:spPr>
          <a:xfrm>
            <a:off x="228600" y="2367000"/>
            <a:ext cx="853452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EFC07B65-2685-4997-94ED-7F79CC14B31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, Present, and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dden Momentum of 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s cannot be altered over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structure of LDC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6C142DEB-760F-49A6-BBE3-BC238FBDF13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.4 Population Pyramids: Ethiopia and the United States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ig06_04"/>
          <p:cNvPicPr/>
          <p:nvPr/>
        </p:nvPicPr>
        <p:blipFill>
          <a:blip r:embed="rId1"/>
          <a:srcRect l="0" t="0" r="-17254" b="-9155"/>
          <a:stretch/>
        </p:blipFill>
        <p:spPr>
          <a:xfrm>
            <a:off x="914400" y="1600200"/>
            <a:ext cx="71629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B15EEFC4-601A-4ADD-9E4D-81673EBEB9BC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5 The Hidden Momentum of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fig06_05"/>
          <p:cNvPicPr/>
          <p:nvPr/>
        </p:nvPicPr>
        <p:blipFill>
          <a:blip r:embed="rId1"/>
          <a:stretch/>
        </p:blipFill>
        <p:spPr>
          <a:xfrm>
            <a:off x="228600" y="1762200"/>
            <a:ext cx="853452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FB8D8FA4-C49C-49E3-8148-3885C893BE5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mographic 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I: High birthrates and dea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II: Continued high birthrates, declining dea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III: Falling birthrates and death rates, eventually stabi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EABC62B9-E810-45C5-9D3E-89B5A8EF208C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6 The Demographic Transition in Wester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fig06_06"/>
          <p:cNvPicPr/>
          <p:nvPr/>
        </p:nvPicPr>
        <p:blipFill>
          <a:blip r:embed="rId1"/>
          <a:stretch/>
        </p:blipFill>
        <p:spPr>
          <a:xfrm>
            <a:off x="484200" y="1752480"/>
            <a:ext cx="80215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D0ABA555-F99A-4296-AFEF-6A084917AF6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7 The Demographic Transition in Developing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fig06_07"/>
          <p:cNvPicPr/>
          <p:nvPr/>
        </p:nvPicPr>
        <p:blipFill>
          <a:blip r:embed="rId1"/>
          <a:stretch/>
        </p:blipFill>
        <p:spPr>
          <a:xfrm>
            <a:off x="1154160" y="1752480"/>
            <a:ext cx="66834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C3701B68-178F-4D77-97E9-CCF52863103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lthusian population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that rising population and diminishing returns to fixed factors result in a low levels of living (population tr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A2C186FB-C862-432B-A75F-93B86D3689C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8 The Malthusian Population 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fig06_08"/>
          <p:cNvPicPr/>
          <p:nvPr/>
        </p:nvPicPr>
        <p:blipFill>
          <a:blip r:embed="rId1"/>
          <a:stretch/>
        </p:blipFill>
        <p:spPr>
          <a:xfrm>
            <a:off x="422280" y="1752480"/>
            <a:ext cx="8147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C4B6E985-D61C-4B07-9922-7C300B0863E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 Issue: Population Growth and Quality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major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eveloping countries be able to improve levels of living given anticipated population grow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developing countries deal with the vast increases in their labor fo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higher population growth rates affect pover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23772387-1DC5-48A3-BA7C-5FF75740C48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isms of the Malthusia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technological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lation between population growth and levels of per capita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conomics of family size; individual and not aggregat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F2462530-16FC-402E-A7BC-B2943A248BD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.9 How Technological and Social Progress Allows Nations to Avoid the Population 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fig06_09"/>
          <p:cNvPicPr/>
          <p:nvPr/>
        </p:nvPicPr>
        <p:blipFill>
          <a:blip r:embed="rId1"/>
          <a:stretch/>
        </p:blipFill>
        <p:spPr>
          <a:xfrm>
            <a:off x="812880" y="1752480"/>
            <a:ext cx="7364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4070D654-3260-4638-8E25-68EE06D3D33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croeconomic household theory of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mand for children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wo or three as “consumer goo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hildren as “investment goo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DB869CD4-51DF-4ED5-BE33-3922BED831E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.10 Microeconomic Theory of Fertility: An Ill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fig06_10"/>
          <p:cNvPicPr/>
          <p:nvPr/>
        </p:nvPicPr>
        <p:blipFill>
          <a:blip r:embed="rId1"/>
          <a:stretch/>
        </p:blipFill>
        <p:spPr>
          <a:xfrm>
            <a:off x="2008080" y="1752480"/>
            <a:ext cx="49737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2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739252AD-3620-4239-9135-E4E268CEB2F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143000" y="2133720"/>
                <a:ext cx="6858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949680" y="2971800"/>
            <a:ext cx="723060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emand for surviving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vel of household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net” price of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ice of all other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astes for goods relative to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678320" y="16765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2e32"/>
                </a:solidFill>
                <a:latin typeface="Times New Roman"/>
              </a:rPr>
              <a:t>Demand for Childre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7FA3CC49-B8F7-4619-99B3-5575F0071A0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95280" y="1998720"/>
                <a:ext cx="6705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3067200" y="3581280"/>
                <a:ext cx="1255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3067200" y="4876920"/>
                <a:ext cx="1218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4781520" y="3581280"/>
                <a:ext cx="1295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4857840" y="4876920"/>
                <a:ext cx="11811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17"/>
          <p:cNvSpPr/>
          <p:nvPr/>
        </p:nvSpPr>
        <p:spPr>
          <a:xfrm>
            <a:off x="1006920" y="2986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neoclassical conditions, we would exp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2287800" y="16002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2e32"/>
                </a:solidFill>
                <a:latin typeface="Times New Roman"/>
              </a:rPr>
              <a:t>Demand for Childre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748E1170-1513-4E23-BEC9-2363532F531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of High Fertility in Developing Countries: The Malthusian and Househol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iric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development and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Education, role , and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nonagricultural wage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e in family incom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in infant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old-age and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schooling opport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233A3267-EB2F-4A98-9B66-6441F73A887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High Fertility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flicting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growth isn’t a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l problem is not population growth but the follow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resource depletion and environmental de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ion of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population is a deliberately contrived fals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growth is a desirable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8D1D7F58-D0DD-460F-A257-B9A9356397F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High Fertility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flicting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Growth is a re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ist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rty and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se impact on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se impact on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657F59CB-C05E-4991-AFCF-59CFC8059EE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and Objective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ard a Cons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conflicting opinions, there is some common ground on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not the primary cause of lower liv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ot numbers but 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tensifies under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E8C3331A-79F2-4AD6-BD50-6DD8B56AD76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 Issue: Population Growth and Quality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major issues (cont’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developing countries be able to extend the coverage and improve the quality of health care and education in the face of rapid population grow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relationship between poverty and family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affluence in the developed world affect the ability of developing countries to provide for their peo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E6C84FA0-62D1-4F28-BF8C-37D402CE98C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and Objective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 a Cons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icy Approa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to underlying socioeconomic conditions that impac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lanning programs should provide education and technological means to regulate 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countries have responsibilitie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92F4259D-A107-4B81-9571-3E7AD5EDC41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Policy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eveloping countries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on through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lan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e incentives and disincentives for havi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rcion may not be a good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the socioeconomic status of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B7E3EA2B-2CE3-4E2A-9D53-0465C904776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6.4 Countries Adopting Family-Planning Programs, 1960-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tbl06_04"/>
          <p:cNvPicPr/>
          <p:nvPr/>
        </p:nvPicPr>
        <p:blipFill>
          <a:blip r:embed="rId1"/>
          <a:stretch/>
        </p:blipFill>
        <p:spPr>
          <a:xfrm>
            <a:off x="609480" y="1752480"/>
            <a:ext cx="6400800" cy="474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69F961E8-2B0D-47AC-8DBF-47698E1A13B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Policy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developed countries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resources use ineq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poli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eveloped countries can assist developing countries with their popul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conomic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to technology of ferti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assistance for family plann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CB97B368-8448-4A9B-A6AD-B45B0E09DD3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graphic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ment of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-plan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momentum of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 morta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thusian population 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7A379D72-65B2-40E9-817B-35714EDD063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conomic theory of 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-poverty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ativ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population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ferti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th dependency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128F1FA9-7CC2-4F8F-B6AE-C304C3EAF51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, Present, and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population growth through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66A77A23-B4D3-4A27-9C85-D4CCD84C8CF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6.1 Estimated World Population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tbl06_01"/>
          <p:cNvPicPr/>
          <p:nvPr/>
        </p:nvPicPr>
        <p:blipFill>
          <a:blip r:embed="rId1"/>
          <a:stretch/>
        </p:blipFill>
        <p:spPr>
          <a:xfrm>
            <a:off x="404640" y="1752480"/>
            <a:ext cx="8180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8ABE8B9E-47AF-488B-AE0E-1E8C5C96F96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6.1 World Population Growth, 1750-2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fig06_01"/>
          <p:cNvPicPr/>
          <p:nvPr/>
        </p:nvPicPr>
        <p:blipFill>
          <a:blip r:embed="rId1"/>
          <a:stretch/>
        </p:blipFill>
        <p:spPr>
          <a:xfrm>
            <a:off x="609480" y="1676520"/>
            <a:ext cx="6477120" cy="481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03B3466A-EECA-41B4-9A04-BC558CB7394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6.2 World Population Growth Rates and Doubling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tbl06_02"/>
          <p:cNvPicPr/>
          <p:nvPr/>
        </p:nvPicPr>
        <p:blipFill>
          <a:blip r:embed="rId1"/>
          <a:stretch/>
        </p:blipFill>
        <p:spPr>
          <a:xfrm>
            <a:off x="228600" y="2592360"/>
            <a:ext cx="8534520" cy="2738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E34BC78C-D146-4B03-B673-A702067D9FD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t, Present, and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world’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 and Mortality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of population incr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 rates, death rates , Total fertil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Structure and dependency bu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6-</a:t>
            </a:r>
            <a:fld id="{C78073C7-D67D-41CF-9F7A-6DC9CF72076A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.2 World Population Distribution by Region, 2003 and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g06_02"/>
          <p:cNvPicPr/>
          <p:nvPr/>
        </p:nvPicPr>
        <p:blipFill>
          <a:blip r:embed="rId1"/>
          <a:stretch/>
        </p:blipFill>
        <p:spPr>
          <a:xfrm>
            <a:off x="247680" y="1752480"/>
            <a:ext cx="84963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15:01:34Z</dcterms:created>
  <dc:creator>Michael P. Todaro</dc:creator>
  <dc:description/>
  <dc:language>en-US</dc:language>
  <cp:lastModifiedBy>abu shonchoy</cp:lastModifiedBy>
  <dcterms:modified xsi:type="dcterms:W3CDTF">2011-03-24T07:18:14Z</dcterms:modified>
  <cp:revision>128</cp:revision>
  <dc:subject>Population Growth and Economic Development: Causes, Consequences, and Controversies</dc:subject>
  <dc:title>Chapter 6</dc:title>
</cp:coreProperties>
</file>