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D957-6893-4E84-B8EF-7CC7EF807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B8F8-1351-47CE-84CD-513E6FCC0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ADBB-FDAF-4C9B-B8FD-C319E1291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9797-4B9E-4B91-8C0E-9E3D85798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DA7F-E533-43B2-8A6E-8983B374B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FAAE-2B1A-4B3A-9B37-26F928294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F7F9-2C35-452D-8DF5-5CFD0BF8D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4619-3EFC-4414-86A5-509B7E04A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C23D-6836-47A0-9B4E-60FDD85D2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DE31-2FFA-47D0-AB46-F63DF944D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499E-6503-4976-B046-FE6AAC5F2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60E8-00FF-40BB-BA46-F4C66D316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BAB8-C746-477F-9BD5-76F2CA347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F77E-5F03-4802-9254-92C08DB26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odaroCover-detail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391520" y="0"/>
            <a:ext cx="1752480" cy="15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839080" y="1447920"/>
            <a:ext cx="304920" cy="533376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8634240" y="1600200"/>
            <a:ext cx="381240" cy="48006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800600"/>
              <a:gd name="textAreaBottom" fmla="*/ 4782240 h 4800600"/>
            </a:gdLst>
            <a:ahLst/>
            <a:rect l="textAreaLeft" t="textAreaTop" r="textAreaRight" b="textAreaBottom"/>
            <a:pathLst>
              <a:path w="21600" h="271752">
                <a:moveTo>
                  <a:pt x="3600" y="0"/>
                </a:moveTo>
                <a:arcTo wR="3600" hR="3600" stAng="16200000" swAng="-5400000"/>
                <a:lnTo>
                  <a:pt x="0" y="268152"/>
                </a:lnTo>
                <a:arcTo wR="3600" hR="3600" stAng="10800000" swAng="-5400000"/>
                <a:lnTo>
                  <a:pt x="18000" y="271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53280" y="640080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8153280" y="6629400"/>
            <a:ext cx="990720" cy="22860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af1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36E953A9-C5D0-41F3-A78C-111E67E6DE6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af199"/>
                </a:solidFill>
                <a:latin typeface="Arial"/>
              </a:rPr>
              <a:t>Copyright © 2009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aw-logo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odaroCover-RGB06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4148280" y="609480"/>
            <a:ext cx="43686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05920"/>
            <a:ext cx="34290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d81b"/>
                </a:solidFill>
                <a:latin typeface="Arial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3657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d81b"/>
                </a:solidFill>
                <a:latin typeface="Arial"/>
              </a:rPr>
              <a:t>Human Capital: Education and Health in Economic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4FEC8C0A-E29B-49B1-BEFA-D14BB0C41F8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gure 8.3 Child Labor as a Bad Equilib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08_03"/>
          <p:cNvPicPr/>
          <p:nvPr/>
        </p:nvPicPr>
        <p:blipFill>
          <a:blip r:embed="rId1"/>
          <a:stretch/>
        </p:blipFill>
        <p:spPr>
          <a:xfrm>
            <a:off x="1066680" y="1600200"/>
            <a:ext cx="6629400" cy="4856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FDAE3533-1D1D-424A-9130-FF6B1711BC06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ender Gap: Women and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emales receive less education than young males in nearly every L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ing the educational gender gap is important becau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return on women’s education is higher than that of men in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productivity and lowers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ed mothers have a multiplier impact on many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reak the vicious cycle of poverty and inadequate schooling for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07337D80-E72E-4DF3-8782-A1B0B0F060D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8.2 Male and Female Education Rates,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tbl08_02"/>
          <p:cNvPicPr/>
          <p:nvPr/>
        </p:nvPicPr>
        <p:blipFill>
          <a:blip r:embed="rId1"/>
          <a:stretch/>
        </p:blipFill>
        <p:spPr>
          <a:xfrm>
            <a:off x="0" y="1676520"/>
            <a:ext cx="891540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DBBA891C-E944-4DE9-B917-DC71CFCC6170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Gender Gap: Women and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of gender bias in healt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incentives and their cultural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Women” mystery in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amily income does not always lead to better healt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389E99CD-1F76-4093-AE84-79BCCA3E1F9A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8.4 Female-Male Ratios in Total Population in Selected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fig08_04"/>
          <p:cNvPicPr/>
          <p:nvPr/>
        </p:nvPicPr>
        <p:blipFill>
          <a:blip r:embed="rId1"/>
          <a:stretch/>
        </p:blipFill>
        <p:spPr>
          <a:xfrm>
            <a:off x="838080" y="1752480"/>
            <a:ext cx="6477120" cy="480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49A561F0-8A58-459E-9A3B-22EEC5373B35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al Systems and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litical Economy of educational supply and demand: the relationship between employment opportunities and educational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versus private benefits and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D7159CE0-CF3A-487C-A974-6E1F927C8A44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8.5 Private versus Social Benefits and Costs of Education: An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fig08_05"/>
          <p:cNvPicPr/>
          <p:nvPr/>
        </p:nvPicPr>
        <p:blipFill>
          <a:blip r:embed="rId1"/>
          <a:stretch/>
        </p:blipFill>
        <p:spPr>
          <a:xfrm>
            <a:off x="1523880" y="1676520"/>
            <a:ext cx="454212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2AA3C30B-8A53-4112-85FB-EE1A180A86B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al Systems and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enz curves for the distribution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Inequality and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7944E47C-62B1-4183-AB1F-C9E42E34AF74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8.6 Lorenz Curves for Education in India and South Korea,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fig08_06"/>
          <p:cNvPicPr/>
          <p:nvPr/>
        </p:nvPicPr>
        <p:blipFill>
          <a:blip r:embed="rId1"/>
          <a:stretch/>
        </p:blipFill>
        <p:spPr>
          <a:xfrm>
            <a:off x="385920" y="1752480"/>
            <a:ext cx="821988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D9EE1548-6A30-4B3C-8DA3-309F356D5CE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7 Gini Coefficients for Education in 85 Countries, 19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fig08_07"/>
          <p:cNvPicPr/>
          <p:nvPr/>
        </p:nvPicPr>
        <p:blipFill>
          <a:blip r:embed="rId1"/>
          <a:stretch/>
        </p:blipFill>
        <p:spPr>
          <a:xfrm>
            <a:off x="563400" y="1752480"/>
            <a:ext cx="78645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BCFC803E-B0DA-449B-A83A-20F3A84E73F4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entral Roles of Education and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and education are important objectives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and education are also important components of grow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74A382A5-8FA7-4E57-A053-9A9422FDBEC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al Systems and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supply and demand: the relationship between employment opportunities and educational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versus private benefits an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, inequality, and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, Internal Migration, and the Brain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51ACDCA4-301C-4537-B1E6-12BE890F110E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al Systems and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supply and demand: the relationship between employment opportunities and educational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versus private benefits and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, inequality, and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, internal migration, and the brain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FA30E032-05E3-4CAD-A53A-2279C71EA9E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lth Systems and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and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3D942C3F-7DCB-4BCC-A231-1B5DDE65C92F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8 Life Expectancy in Various World Re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fig08_08"/>
          <p:cNvPicPr/>
          <p:nvPr/>
        </p:nvPicPr>
        <p:blipFill>
          <a:blip r:embed="rId1"/>
          <a:stretch/>
        </p:blipFill>
        <p:spPr>
          <a:xfrm>
            <a:off x="228600" y="1973160"/>
            <a:ext cx="8534520" cy="397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6343BA6F-167F-4AAB-A186-7FE3D16A8ED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9 Under-5 Mortality Rates in Various World Re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fig08_09"/>
          <p:cNvPicPr/>
          <p:nvPr/>
        </p:nvPicPr>
        <p:blipFill>
          <a:blip r:embed="rId1"/>
          <a:stretch/>
        </p:blipFill>
        <p:spPr>
          <a:xfrm>
            <a:off x="228600" y="1765440"/>
            <a:ext cx="85345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88E65445-611D-4C13-A1D6-9D2CB30D885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gure 8.10 Deaths of Children under Ag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fig08_10"/>
          <p:cNvPicPr/>
          <p:nvPr/>
        </p:nvPicPr>
        <p:blipFill>
          <a:blip r:embed="rId1"/>
          <a:stretch/>
        </p:blipFill>
        <p:spPr>
          <a:xfrm>
            <a:off x="457200" y="1676520"/>
            <a:ext cx="7238880" cy="4736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B010E84A-1742-41D0-B2ED-E0A66C0FE87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8.11 Children’s Likelihood to Die in Selected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fig08_11"/>
          <p:cNvPicPr/>
          <p:nvPr/>
        </p:nvPicPr>
        <p:blipFill>
          <a:blip r:embed="rId1"/>
          <a:stretch/>
        </p:blipFill>
        <p:spPr>
          <a:xfrm>
            <a:off x="228600" y="1863720"/>
            <a:ext cx="8534520" cy="419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8621796B-5A26-4B78-B381-97C5FC942CE6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8.3 Regional HIV and AIDS Statistics,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tbl08_03"/>
          <p:cNvPicPr/>
          <p:nvPr/>
        </p:nvPicPr>
        <p:blipFill>
          <a:blip r:embed="rId1"/>
          <a:stretch/>
        </p:blipFill>
        <p:spPr>
          <a:xfrm>
            <a:off x="228600" y="201312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E8E32CEC-569B-4872-8D32-18F87F333F66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lth Systems and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bu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itic Worms and Other “Neglected Tropical Disea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D92814E9-B84C-4763-BD3E-4985AF2DBEF8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8.12 Proportion of Children under 5 Who Are Underweight, 1990 and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fig08_12"/>
          <p:cNvPicPr/>
          <p:nvPr/>
        </p:nvPicPr>
        <p:blipFill>
          <a:blip r:embed="rId1"/>
          <a:stretch/>
        </p:blipFill>
        <p:spPr>
          <a:xfrm>
            <a:off x="228600" y="1676520"/>
            <a:ext cx="7696080" cy="493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443D7BC4-5649-46DE-9982-61801FE3B8C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and Health as Joint Investments fo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health capital may improve the returns to investments i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education capital may improve the returns to investments in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19F0546D-C741-4361-A1C0-5B09238A3CE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8.4 The Major Neglected Tropical Diseases, Ranked by Pre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tbl08_04"/>
          <p:cNvPicPr/>
          <p:nvPr/>
        </p:nvPicPr>
        <p:blipFill>
          <a:blip r:embed="rId1"/>
          <a:srcRect l="0" t="0" r="0" b="221"/>
          <a:stretch/>
        </p:blipFill>
        <p:spPr>
          <a:xfrm>
            <a:off x="1219320" y="1676520"/>
            <a:ext cx="632448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7042F2CA-E6EB-4131-A2A9-330AC3EDEFF6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lth Systems and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and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conn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Systems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variability in the performance of health systems at each incom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33B8355B-A896-45A1-830D-15DDF36C00DA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13 Adult Stature by Birth Co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fig08_13"/>
          <p:cNvPicPr/>
          <p:nvPr/>
        </p:nvPicPr>
        <p:blipFill>
          <a:blip r:embed="rId1"/>
          <a:srcRect l="0" t="0" r="0" b="-1426"/>
          <a:stretch/>
        </p:blipFill>
        <p:spPr>
          <a:xfrm>
            <a:off x="1828800" y="1735200"/>
            <a:ext cx="5486400" cy="481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B2E21C6D-7CB3-49F3-A3B3-FE2B2DECAB5C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8.14 Wages, Education, and Height of Males in Brazil and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fig08_14"/>
          <p:cNvPicPr/>
          <p:nvPr/>
        </p:nvPicPr>
        <p:blipFill>
          <a:blip r:embed="rId1"/>
          <a:srcRect l="0" t="0" r="0" b="-1567"/>
          <a:stretch/>
        </p:blipFill>
        <p:spPr>
          <a:xfrm>
            <a:off x="1447920" y="1676520"/>
            <a:ext cx="5790960" cy="4925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DACFE9FB-DB27-48BC-B6F8-746D8AE7AC9E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15 GNI per Capita and Life Expectancy at Birth, 20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fig08_15"/>
          <p:cNvPicPr/>
          <p:nvPr/>
        </p:nvPicPr>
        <p:blipFill>
          <a:blip r:embed="rId1"/>
          <a:stretch/>
        </p:blipFill>
        <p:spPr>
          <a:xfrm>
            <a:off x="536400" y="1752480"/>
            <a:ext cx="791712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48908235-02F1-487B-8F14-7CCDB401E58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s for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cash Transfer programs (C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gender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ollment ratios, gross and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immunodeficiency virus (H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AF2BDEAA-358D-4B21-A32C-812B9EB0D475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s for Review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benefits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costs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benefits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sts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D58DDEA2-B961-40FD-9AE1-6972CCE81C80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ing Health and Education: Why Increasing Incomes Is Not 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in income often do not lead to substantial increases in investment in children’s education and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educated mothers tend to have healthie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market failures in education and health require policy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40A37622-1B15-4888-8DF7-D79AB5D61DBA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in Health and Education: The Human Capital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investments in health or education lead to a stream of higher future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t discounted value of this stream of future income is compared to the costs of the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returns to education are high, and may be higher than social retur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3C753A97-60C6-4455-8130-B36DCE226FC6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8.1 Age-earnings Profiles by Level of Education: Venezuela,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fig08_01"/>
          <p:cNvPicPr/>
          <p:nvPr/>
        </p:nvPicPr>
        <p:blipFill>
          <a:blip r:embed="rId1"/>
          <a:stretch/>
        </p:blipFill>
        <p:spPr>
          <a:xfrm>
            <a:off x="561960" y="1752480"/>
            <a:ext cx="78660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3CF9C768-E1BB-4BC9-98C1-9028285F0D7A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2 Financial Trade-Offs in the Decision to Continue in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fig08_02"/>
          <p:cNvPicPr/>
          <p:nvPr/>
        </p:nvPicPr>
        <p:blipFill>
          <a:blip r:embed="rId1"/>
          <a:stretch/>
        </p:blipFill>
        <p:spPr>
          <a:xfrm>
            <a:off x="2257560" y="1752480"/>
            <a:ext cx="4476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248BF67E-7267-47D3-9EA0-D3A084FC64D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8.1 Rates of Return to Investment in Education by Level of Education, Country, Type, and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tbl08_01"/>
          <p:cNvPicPr/>
          <p:nvPr/>
        </p:nvPicPr>
        <p:blipFill>
          <a:blip r:embed="rId1"/>
          <a:stretch/>
        </p:blipFill>
        <p:spPr>
          <a:xfrm>
            <a:off x="228600" y="2637000"/>
            <a:ext cx="8534520" cy="264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8-</a:t>
            </a:r>
            <a:fld id="{0EE54FE6-425C-4740-B17A-6CD3CDCDE41F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ld Lab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labor is a widespread phenome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may be modeled using the “multiple equilibria”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intervention may be called for to move to a ‘better’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3:15:32Z</dcterms:created>
  <dc:creator>Michael P. Todaro</dc:creator>
  <dc:description/>
  <dc:language>en-US</dc:language>
  <cp:lastModifiedBy>abu shonchoy</cp:lastModifiedBy>
  <dcterms:modified xsi:type="dcterms:W3CDTF">2011-03-10T09:25:07Z</dcterms:modified>
  <cp:revision>130</cp:revision>
  <dc:subject>Human Capital: Education and Health in Economic Development</dc:subject>
  <dc:title>Chapter 8</dc:title>
</cp:coreProperties>
</file>