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8024-B09F-46C5-A818-3CE4B31EA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F45A-CA7E-4229-8BC8-104AE52CB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all what we learned about the distribution of income: Where in the world – what part of the world – is the distribution most unequal? LA. Why? In part as a heritage of the colonial experience, which developed large scale plantation agriculture almost feudal in nature: Land owners employed very large numbers of peasants – sometimes slave – to cultivate their l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ation with Ernesto from Chile who will be coming to class: When he came to the US he was very surprised to find that in this country most land owners actually work on their land. In Chile, land owners employ peas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8A01-E22E-4D66-A5CA-76622EE1E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Prob (not surviving) higher with technique B, even tho B has higher expected y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es Foundation: Interested in crop insurance for farmers in LDCs – Watts and Smith investigating feasi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B0B2-38B5-4C6F-BDF9-CD1D05223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US is now 2% for  both labor and gdp. In 1920, the farm population was 30%, about where Uzbekistan, Azerbaijan, Ecuador, and Iran are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7C6C-BB3B-449F-BF58-6087FBAAB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 Change – often known as the Green Revolution – has also come to Asia and Latin America, but much less so to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E6F7-0847-4433-8724-6A90A6369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yields and output per worker remain far below D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ly reflects lower off-farm incomes and incomplete migration, but also some other characteristics of ldc 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83595-9F2C-4D8F-B060-EA3552EAF1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240" y="4060800"/>
            <a:ext cx="8534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F5B5E-C5BF-4F45-A410-B64590C8D3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88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73F81-27D5-428C-86BA-EE5C6AB75E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4000" y="1752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99400" y="1752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240" y="406080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4000" y="406080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99400" y="406080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5C30B-AFB1-4271-A660-CFBDDD9179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7360" y="204480"/>
            <a:ext cx="727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C5D6C-0AA3-43AB-9C5C-974E22C12A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0188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4060800"/>
            <a:ext cx="8534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4060800"/>
            <a:ext cx="8534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0188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14000" y="1752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99400" y="1752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406080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14000" y="406080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99400" y="406080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5B46A-DB15-4FDC-9121-0526EE1019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4AE27-9F78-4A34-8F92-C54A407882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4A12D-AFA4-4230-805F-6E0260BC9D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7360" y="204480"/>
            <a:ext cx="727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EECAF-5B83-4720-94A0-972DD647C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7F617-BFED-4A27-9352-023626AE1E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88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D6FC5-DACF-4909-BBD4-8D367CD654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4060800"/>
            <a:ext cx="8534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3062B-8E3C-49EB-8EC4-9064E9641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TodaroCover-detail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7391520" y="0"/>
            <a:ext cx="1752480" cy="1509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447920"/>
            <a:ext cx="8991720" cy="152280"/>
          </a:xfrm>
          <a:prstGeom prst="rect">
            <a:avLst/>
          </a:prstGeom>
          <a:solidFill>
            <a:srgbClr val="004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839080" y="1447920"/>
            <a:ext cx="304920" cy="5333760"/>
          </a:xfrm>
          <a:prstGeom prst="rect">
            <a:avLst/>
          </a:prstGeom>
          <a:solidFill>
            <a:srgbClr val="004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8"/>
          <p:cNvSpPr/>
          <p:nvPr/>
        </p:nvSpPr>
        <p:spPr>
          <a:xfrm>
            <a:off x="8634240" y="1600200"/>
            <a:ext cx="381240" cy="48006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800600"/>
              <a:gd name="textAreaBottom" fmla="*/ 4782240 h 4800600"/>
            </a:gdLst>
            <a:ahLst/>
            <a:rect l="textAreaLeft" t="textAreaTop" r="textAreaRight" b="textAreaBottom"/>
            <a:pathLst>
              <a:path w="21600" h="271752">
                <a:moveTo>
                  <a:pt x="3600" y="0"/>
                </a:moveTo>
                <a:arcTo wR="3600" hR="3600" stAng="16200000" swAng="-5400000"/>
                <a:lnTo>
                  <a:pt x="0" y="268152"/>
                </a:lnTo>
                <a:arcTo wR="3600" hR="3600" stAng="10800000" swAng="-5400000"/>
                <a:lnTo>
                  <a:pt x="18000" y="2717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9"/>
          <p:cNvSpPr/>
          <p:nvPr/>
        </p:nvSpPr>
        <p:spPr>
          <a:xfrm>
            <a:off x="8153280" y="640080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004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8153280" y="6629400"/>
            <a:ext cx="990720" cy="228600"/>
          </a:xfrm>
          <a:prstGeom prst="rect">
            <a:avLst/>
          </a:prstGeom>
          <a:solidFill>
            <a:srgbClr val="004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af1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9-</a:t>
            </a:r>
            <a:fld id="{5289C85D-BCFE-47FC-BF33-C2B539277F55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0666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af199"/>
                </a:solidFill>
                <a:latin typeface="Arial"/>
              </a:rPr>
              <a:t>Copyright © 2009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aw-logo"/>
          <p:cNvPicPr/>
          <p:nvPr/>
        </p:nvPicPr>
        <p:blipFill>
          <a:blip r:embed="rId2"/>
          <a:stretch/>
        </p:blipFill>
        <p:spPr>
          <a:xfrm>
            <a:off x="228600" y="6095880"/>
            <a:ext cx="752400" cy="573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TodaroCover-RGB06"/>
          <p:cNvPicPr/>
          <p:nvPr/>
        </p:nvPicPr>
        <p:blipFill>
          <a:blip r:embed="rId3">
            <a:lum bright="-4000"/>
          </a:blip>
          <a:stretch/>
        </p:blipFill>
        <p:spPr>
          <a:xfrm>
            <a:off x="4148280" y="609480"/>
            <a:ext cx="4368600" cy="5486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02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0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205920"/>
            <a:ext cx="34290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d81b"/>
                </a:solidFill>
                <a:latin typeface="Arial"/>
              </a:rPr>
              <a:t>Chapter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41911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d81b"/>
                </a:solidFill>
                <a:latin typeface="Arial"/>
              </a:rPr>
              <a:t>Agricultural Transformation and Rura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9-</a:t>
            </a:r>
            <a:fld id="{2FFBA227-7FDA-4B6C-9CCC-AEB9A315A875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asant Agriculture in Latin America, Asia, and 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in America: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tifundio (employ &gt; 12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nifundi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mploy &lt; 2) dualistic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 inequality of land hol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a: Fragmented and heavily congested dwarf land hol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fa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: extensive cultivation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land, farm, wear out soil, move to new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9-</a:t>
            </a:r>
            <a:fld id="{EE5558E8-CC08-4A70-A89A-3DCCD4D23571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9.2 Distribution of Farms and Farmland by Operational Farm Size and Land Tenure Status In Selected Developing Countries in Asia and Latin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tbl09_02"/>
          <p:cNvPicPr/>
          <p:nvPr/>
        </p:nvPicPr>
        <p:blipFill>
          <a:blip r:embed="rId1"/>
          <a:srcRect l="0" t="0" r="0" b="490"/>
          <a:stretch/>
        </p:blipFill>
        <p:spPr>
          <a:xfrm>
            <a:off x="838080" y="1676520"/>
            <a:ext cx="6553440" cy="4771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9-</a:t>
            </a:r>
            <a:fld id="{58228290-202D-48CA-9E23-91169390D9EA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rm Size and Effici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-S: Latifundios less efficient than medium sized family farms (employ 4 - 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st: Why aren’t these broken up by market, since value would incre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-S: Latifundios provide power and prestige to owners, in the context of “rural social and institutional structur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g: Think Ted Turner or Meg Ryan – Are they primarily concerned with production efficien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9-</a:t>
            </a:r>
            <a:fld id="{AE9E2635-4DCD-4F0F-ADFA-BD38297A08C9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ricultural Growth:  Past Progress and Curr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orming Economies:  Problems of Fragmentation and Subdivision of Peasant Land in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 of colonial rule in strengthening land tenure systems of private property rights and the consequent rise of moneylend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mporary landlordism in India and Pakistan involves absentee landlordism and persistence of sharecroppers and tenant far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population growth resulted in more fragmentation and peasant impoveris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9-</a:t>
            </a:r>
            <a:fld id="{31FCF2A4-0059-4CD3-B2A1-5E5ABC1209D2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ricultural Growth:  Past Progress and Curr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istence Agriculture and Extensive Cultiva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productivity due to lack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ing Cultiv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onal demand for labor depending upon the rainy s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dependence on unimproved seeds sown on unfertilized, rain-fed fiel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9-</a:t>
            </a:r>
            <a:fld id="{965E8237-98B8-4E36-A4DD-7275FF72AB53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9.4 Expansion of Modern Inputs in the World’s Develop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fig09_04"/>
          <p:cNvPicPr/>
          <p:nvPr/>
        </p:nvPicPr>
        <p:blipFill>
          <a:blip r:embed="rId1"/>
          <a:srcRect l="0" t="0" r="0" b="-1880"/>
          <a:stretch/>
        </p:blipFill>
        <p:spPr>
          <a:xfrm>
            <a:off x="1066680" y="1628640"/>
            <a:ext cx="5410440" cy="49244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9-</a:t>
            </a:r>
            <a:fld id="{4B2B8210-13D8-4FE6-B2B8-077A3BD46EF2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mportant Role of Wo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 provide 60% to 80% of agricultural labor in Africa and Asia, and 40% in Latin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 work longer hours than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assistance programs tend to reach men, not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9-</a:t>
            </a:r>
            <a:fld id="{45B30AF8-8E08-4C73-AFEA-5A367F4859AE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bsistence Farming: Risk Aversion, Uncertainty, Survi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 uncertainty and limited access to credit and insurance explains risk a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averse subsistence farmers prefer technologies that combine low mean-per-hectare with low variance to alternative high yielding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s to minimize risk and remove commercial and institutional obstacles to small farmer innovation are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9-</a:t>
            </a:r>
            <a:fld id="{4ABF913A-1B0E-4EB8-B824-C361C85EB427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9.6 Crop Yield Probability Densities of Two Different Farming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fig09_06"/>
          <p:cNvPicPr/>
          <p:nvPr/>
        </p:nvPicPr>
        <p:blipFill>
          <a:blip r:embed="rId1"/>
          <a:stretch/>
        </p:blipFill>
        <p:spPr>
          <a:xfrm>
            <a:off x="914400" y="1752480"/>
            <a:ext cx="6881760" cy="4608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9-</a:t>
            </a:r>
            <a:fld id="{145644AA-11E5-4C52-AE7D-40690412DFD9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9.7 Incentives under Sharecrop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fig09_07"/>
          <p:cNvPicPr/>
          <p:nvPr/>
        </p:nvPicPr>
        <p:blipFill>
          <a:blip r:embed="rId1"/>
          <a:stretch/>
        </p:blipFill>
        <p:spPr>
          <a:xfrm>
            <a:off x="1600200" y="1752480"/>
            <a:ext cx="579132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9-</a:t>
            </a:r>
            <a:fld id="{3FE8B932-5A5F-4C23-B146-B67183543180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9.1 As Countries Develop, the Shares of GDP and Labor in Agriculture Tend to Decline, but with Many Idiosyncras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fig09_01"/>
          <p:cNvPicPr/>
          <p:nvPr/>
        </p:nvPicPr>
        <p:blipFill>
          <a:blip r:embed="rId1"/>
          <a:stretch/>
        </p:blipFill>
        <p:spPr>
          <a:xfrm>
            <a:off x="990720" y="1752480"/>
            <a:ext cx="6324480" cy="47894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9-</a:t>
            </a:r>
            <a:fld id="{CF97874C-8E28-400B-BFFC-C458339DBA41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arecrop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insically Inefficient due to poor incentives (Marsha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ing approach (Cheu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ing sharecroppers a larger share of the produce and security of tenure on land can increase efficiency and investments in land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9-</a:t>
            </a:r>
            <a:fld id="{ABCDC97B-F520-49DC-A5E2-8C833F284299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ward a Strategy of Agricultural and Rural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ing small-scale agri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and pricing policies:  Providing necessary economic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ng to New opportunities and New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for Rur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d 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ve pol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Development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9-</a:t>
            </a:r>
            <a:fld id="{984D97BE-2D95-4402-8951-15601CD3202F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d Re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istribute land ownership or rights to cultiv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e wealth to p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 productivity? Ownership concentrated because effici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in America: Colonial Agricultur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a: Colonial polic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9-</a:t>
            </a:r>
            <a:fld id="{BAB6A030-107C-4ED0-BAA7-F2DA41A805ED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sley &amp; Burgess (200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effective means to relieve poverty is a defining mission for development ec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istrib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constraints o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incentives to generate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some conclude, Policy should Promote Growth as means to Reduce Pover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9-</a:t>
            </a:r>
            <a:fld id="{E0EC8859-6600-4E8D-9143-0E337C7CFA9A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sley &amp; Burgess (200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Reform in India 1958-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(much) redistribution of land tit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her, increase security of ten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power of absentee landl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irical Findings (i.e. the data say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Reforms led to Poverty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a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Lower per capita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9-</a:t>
            </a:r>
            <a:fld id="{66641CED-47B3-411E-B456-7E95CB7E64C1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nnerjee and Iyer (200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s in which proprietary rights in land were historically given to landlords have significantly lower ag investments and productivity … than in areas where rights were given to cultiva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as also have significantly lower investments in health and educa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4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9-</a:t>
            </a:r>
            <a:fld id="{1F614E08-0863-42BA-AE16-16062252E087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epts for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aria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h c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sified fa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 f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n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rur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0" y="175212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locking factor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l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tifun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um-sized fa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nifun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ed fa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4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9-</a:t>
            </a:r>
            <a:fld id="{31826E1D-166B-4CAA-8738-645B457A2B7D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epts for Review (cont’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yl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tr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capita agricultural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capita food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 b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vity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0" y="175212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-neu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cro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ing cul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ized fa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ple f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istence fa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ant far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actions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9-</a:t>
            </a:r>
            <a:fld id="{1B3FB30E-603E-497B-AD60-7294D4EE523F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ricultural Growth:  Past Progress and Current Challeng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iculture employs a larger fraction of labor forces in LDCs than D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iculture’s share of GDP is much lower than share of labor force in LD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output per worker is much lower in agriculture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A &lt;&lt;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L =&gt;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&lt; Q/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incomes are lower in ag than non-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9-</a:t>
            </a:r>
            <a:fld id="{E312B537-35C6-452A-8BF6-AE4D84796B27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ve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3 of the World’s Poor People live in Rural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ral People are primarily engaged in Subsistence Agri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, reducing poverty requires reducing rural pov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9-</a:t>
            </a:r>
            <a:fld id="{E841535D-38FE-4B94-B33B-EDEEE1FA34C5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Reduce Rural Pover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o c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rural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1. and 2. may be complemen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ro-Smith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 much 1. (Ch.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enough 2. (Ag has been “neglected.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9-</a:t>
            </a:r>
            <a:fld id="{258B1023-DC65-47EA-A2DE-9CE1D085FBB9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grated Rural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ag output in ways that benefit small far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nd Refor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 small farms into commercial fa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-farm employment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ments in health and education (can be used in rural OR urban are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9-</a:t>
            </a:r>
            <a:fld id="{3701BCE3-7620-4E09-B0A0-E097FDBABB89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ed in the 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Regional Inequality slides 20-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9-</a:t>
            </a:r>
            <a:fld id="{EB3C1B4A-5897-4DD1-AB46-8FB70E8612E5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9.2 Cereal Yields by World Region, 1960-20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fig09_02"/>
          <p:cNvPicPr/>
          <p:nvPr/>
        </p:nvPicPr>
        <p:blipFill>
          <a:blip r:embed="rId1"/>
          <a:stretch/>
        </p:blipFill>
        <p:spPr>
          <a:xfrm>
            <a:off x="380880" y="1600200"/>
            <a:ext cx="7620120" cy="49132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9-</a:t>
            </a:r>
            <a:fld id="{CF1986A8-D361-4604-8953-29A4E1AAFC1C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9.1 Land Productivity in Developed and Developing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tbl09_01"/>
          <p:cNvPicPr/>
          <p:nvPr/>
        </p:nvPicPr>
        <p:blipFill>
          <a:blip r:embed="rId1"/>
          <a:stretch/>
        </p:blipFill>
        <p:spPr>
          <a:xfrm>
            <a:off x="338040" y="1752480"/>
            <a:ext cx="831528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14:44:28Z</dcterms:created>
  <dc:creator>Michael P. Todaro</dc:creator>
  <dc:description/>
  <dc:language>en-US</dc:language>
  <cp:lastModifiedBy>abu shonchoy</cp:lastModifiedBy>
  <dcterms:modified xsi:type="dcterms:W3CDTF">2011-11-28T09:57:43Z</dcterms:modified>
  <cp:revision>98</cp:revision>
  <dc:subject>Agricultural Transformation and Rural Development</dc:subject>
  <dc:title>Chapter 9</dc:title>
</cp:coreProperties>
</file>