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7E07-1A94-4345-803E-345419F68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5274-2117-40AC-A8C1-9D6D449D7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BBA04-A68D-4877-BFAC-11F6AFC158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7867-775E-444B-ACA2-F58F5CD52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DB60-1FD3-4FB4-9D49-31B2557DB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140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99400" y="175212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24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140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99400" y="4060800"/>
            <a:ext cx="27478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82544-0A9F-476A-9E2E-D9A110473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B67E2-6F41-44B7-BDD9-6503E8B6F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6EFCC-5252-43AD-9C7A-176C63448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7360" y="204480"/>
            <a:ext cx="727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CB3B9-3D22-4D6C-A9B8-5412B1079C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EB59-681C-4C30-89AA-EDE8E464F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880" y="406080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4EBE-88C9-4536-8B3F-50685929D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880" y="1752120"/>
            <a:ext cx="41648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4060800"/>
            <a:ext cx="85345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21B7-73E4-4C8F-B8A2-CBE89BC762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odaroCover-detail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391520" y="0"/>
            <a:ext cx="1752480" cy="1509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839080" y="1447920"/>
            <a:ext cx="304920" cy="533376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8"/>
          <p:cNvSpPr/>
          <p:nvPr/>
        </p:nvSpPr>
        <p:spPr>
          <a:xfrm>
            <a:off x="8634240" y="1600200"/>
            <a:ext cx="381240" cy="4800600"/>
          </a:xfrm>
          <a:custGeom>
            <a:avLst/>
            <a:gdLst>
              <a:gd name="textAreaLeft" fmla="*/ 18360 w 381240"/>
              <a:gd name="textAreaRight" fmla="*/ 362880 w 381240"/>
              <a:gd name="textAreaTop" fmla="*/ 18360 h 4800600"/>
              <a:gd name="textAreaBottom" fmla="*/ 4782240 h 4800600"/>
            </a:gdLst>
            <a:ahLst/>
            <a:rect l="textAreaLeft" t="textAreaTop" r="textAreaRight" b="textAreaBottom"/>
            <a:pathLst>
              <a:path w="21600" h="271752">
                <a:moveTo>
                  <a:pt x="3600" y="0"/>
                </a:moveTo>
                <a:arcTo wR="3600" hR="3600" stAng="16200000" swAng="-5400000"/>
                <a:lnTo>
                  <a:pt x="0" y="268152"/>
                </a:lnTo>
                <a:arcTo wR="3600" hR="3600" stAng="10800000" swAng="-5400000"/>
                <a:lnTo>
                  <a:pt x="18000" y="2717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9"/>
          <p:cNvSpPr/>
          <p:nvPr/>
        </p:nvSpPr>
        <p:spPr>
          <a:xfrm>
            <a:off x="8153280" y="640080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153280" y="6629400"/>
            <a:ext cx="990720" cy="228600"/>
          </a:xfrm>
          <a:prstGeom prst="rect">
            <a:avLst/>
          </a:prstGeom>
          <a:solidFill>
            <a:srgbClr val="0047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af1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7A65A6AB-32D0-4FCC-9F8C-290433DF6D58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7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af199"/>
                </a:solidFill>
                <a:latin typeface="Arial"/>
              </a:rPr>
              <a:t>Copyright © 2009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aw-logo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odaroCover-RGB06"/>
          <p:cNvPicPr/>
          <p:nvPr/>
        </p:nvPicPr>
        <p:blipFill>
          <a:blip r:embed="rId3">
            <a:lum bright="-4000"/>
          </a:blip>
          <a:stretch/>
        </p:blipFill>
        <p:spPr>
          <a:xfrm>
            <a:off x="4148280" y="609480"/>
            <a:ext cx="4368600" cy="5486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2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0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205920"/>
            <a:ext cx="342900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d81b"/>
                </a:solidFill>
                <a:latin typeface="Arial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d81b"/>
                </a:solidFill>
                <a:latin typeface="Arial"/>
              </a:rPr>
              <a:t>Urbanization and Rural-Urban Migration: Theory and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2B7C5EFB-2DB6-4609-97BC-95A831388D5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rban Giantism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 city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of Urban Gian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ECECC64C-7CC9-4698-8FA9-BBC6DEE387BF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7.1 Population of the Largest and Second-Largest Cities in Selected Countries (mill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tbl07_01"/>
          <p:cNvPicPr/>
          <p:nvPr/>
        </p:nvPicPr>
        <p:blipFill>
          <a:blip r:embed="rId1"/>
          <a:stretch/>
        </p:blipFill>
        <p:spPr>
          <a:xfrm>
            <a:off x="228600" y="2768760"/>
            <a:ext cx="8534520" cy="2385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B34E1BF0-CE47-496F-845E-8238DCB23354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7.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Growth of Urban and Slum Populations, 1990-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fig07_06"/>
          <p:cNvPicPr/>
          <p:nvPr/>
        </p:nvPicPr>
        <p:blipFill>
          <a:blip r:embed="rId1"/>
          <a:srcRect l="0" t="0" r="0" b="-2009"/>
          <a:stretch/>
        </p:blipFill>
        <p:spPr>
          <a:xfrm>
            <a:off x="990720" y="1600200"/>
            <a:ext cx="5943600" cy="507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243680B1-D4D0-4862-89AA-9B3E9B33AAA4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Urban Informal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the informal sector in developing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ies for the Urban Inform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men in the Informal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7200F4D4-31C1-4068-A411-85CD395EDCE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7.8 Importance of Informal Employment in Selected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fig07_08"/>
          <p:cNvPicPr/>
          <p:nvPr/>
        </p:nvPicPr>
        <p:blipFill>
          <a:blip r:embed="rId1"/>
          <a:stretch/>
        </p:blipFill>
        <p:spPr>
          <a:xfrm>
            <a:off x="914400" y="1600200"/>
            <a:ext cx="6553080" cy="4879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67FD99E9-F0CF-42BC-A79B-7E0E9D35F798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7.9 Youth Unemployment Rates, 1995 and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fig07_09"/>
          <p:cNvPicPr/>
          <p:nvPr/>
        </p:nvPicPr>
        <p:blipFill>
          <a:blip r:embed="rId1"/>
          <a:stretch/>
        </p:blipFill>
        <p:spPr>
          <a:xfrm>
            <a:off x="762120" y="1676520"/>
            <a:ext cx="6781680" cy="4803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7EF5C2B3-7835-4C4F-9581-E40EA95A7C7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ion and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-to-urban migration was viewed positively until rec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rrent view is that this migration is greater than the urban areas’ abiliti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o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993456CD-64E9-40D8-9894-74FF75856C86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7.10 Components of Migration in Selected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fig07_10"/>
          <p:cNvPicPr/>
          <p:nvPr/>
        </p:nvPicPr>
        <p:blipFill>
          <a:blip r:embed="rId1"/>
          <a:srcRect l="0" t="0" r="0" b="3152"/>
          <a:stretch/>
        </p:blipFill>
        <p:spPr>
          <a:xfrm>
            <a:off x="1371600" y="1600200"/>
            <a:ext cx="5105520" cy="4826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67CEA7D1-C41E-452A-9C74-569A66D1C2B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ard an Economic Theory of Rural-Urban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rbal description of the Todar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is a rational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sion depends on expected rather than actual wage differ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ability of obtaining a city job is inversely related to the urban unemploymen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rates of migration are outcomes of rural urban imbal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agrammatic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AA5DD08D-F2EB-4068-ADD8-9B4C3511DBF0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7.11 Schematic Framework for Analyzing the Rural-to-Urban Migration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fig07_11"/>
          <p:cNvPicPr/>
          <p:nvPr/>
        </p:nvPicPr>
        <p:blipFill>
          <a:blip r:embed="rId1"/>
          <a:srcRect l="0" t="0" r="0" b="-48"/>
          <a:stretch/>
        </p:blipFill>
        <p:spPr>
          <a:xfrm>
            <a:off x="1981080" y="1600200"/>
            <a:ext cx="459432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F2BDB376-C0C2-420F-844A-94E8D44BCCD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igration and Urbanization Dile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ization: trends and pro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673EE633-BDDF-43CF-BE8C-73726CE5110B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7.12 The Harris-Todaro Migration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fig07_12"/>
          <p:cNvPicPr/>
          <p:nvPr/>
        </p:nvPicPr>
        <p:blipFill>
          <a:blip r:embed="rId1"/>
          <a:stretch/>
        </p:blipFill>
        <p:spPr>
          <a:xfrm>
            <a:off x="1893960" y="1752480"/>
            <a:ext cx="5497560" cy="4668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2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07DFE2B2-B90B-49B4-BBC5-E69E95AB6F97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ward an Economic Theory of Rural-Urban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3009960" y="1981080"/>
                <a:ext cx="312408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US</m:t>
                        </m:r>
                      </m:den>
                    </m:f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4"/>
          <p:cNvSpPr/>
          <p:nvPr/>
        </p:nvSpPr>
        <p:spPr>
          <a:xfrm>
            <a:off x="1464120" y="3657600"/>
            <a:ext cx="6183720" cy="24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gricultural incom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mployment in 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tal urban labor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urban minimum w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6445B05B-B84F-4716-9F94-C099364B4821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ward an Economic Theory of Rural-Urban Mig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olicy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of urban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balances in expected income opportunities is cru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scriminate educational expansion fosters increased migration and un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 subsidies and scarcity factor pricing can be counter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of integrated rural development should be encou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287B0AF7-EBD6-4668-BA0C-A34C70357E68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prehensive Migration and Employment Strate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urban-rural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 small, labor intensive indu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 factor-price dist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appropriat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the linkage between education and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population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52EA3EEE-CBB2-41D4-836D-876FC10FD1E2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pts for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lomeration exter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w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d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l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 turn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zation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ral-urban 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ro migration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banization econom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 subsi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2E72CEB9-D3CE-44C5-BCBF-2FF1E5AC558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7.1 Urbanization and Per Capital Income in Selected 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fig07_01"/>
          <p:cNvPicPr/>
          <p:nvPr/>
        </p:nvPicPr>
        <p:blipFill>
          <a:blip r:embed="rId1"/>
          <a:stretch/>
        </p:blipFill>
        <p:spPr>
          <a:xfrm>
            <a:off x="228600" y="1819440"/>
            <a:ext cx="8534520" cy="4284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778D4167-D78A-4DD5-8177-8C40AA0FA63D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7.2 Urbanization across Time and Income Le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fig07_02"/>
          <p:cNvPicPr/>
          <p:nvPr/>
        </p:nvPicPr>
        <p:blipFill>
          <a:blip r:embed="rId1"/>
          <a:stretch/>
        </p:blipFill>
        <p:spPr>
          <a:xfrm>
            <a:off x="228600" y="1982880"/>
            <a:ext cx="853452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44D35C55-3CDA-45EF-B9E3-B98DDE7DE58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7.3 Proportion of Urban Population by Region, 1950-20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fig07_03"/>
          <p:cNvPicPr/>
          <p:nvPr/>
        </p:nvPicPr>
        <p:blipFill>
          <a:blip r:embed="rId1"/>
          <a:stretch/>
        </p:blipFill>
        <p:spPr>
          <a:xfrm>
            <a:off x="1650960" y="1752480"/>
            <a:ext cx="568980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A723E499-08CD-44E3-BA1B-A53AD11004F3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7.4 Megacities: Cities with Ten Million or More Inhabi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fig07_04"/>
          <p:cNvPicPr/>
          <p:nvPr/>
        </p:nvPicPr>
        <p:blipFill>
          <a:blip r:embed="rId1"/>
          <a:srcRect l="0" t="0" r="0" b="19258"/>
          <a:stretch/>
        </p:blipFill>
        <p:spPr>
          <a:xfrm>
            <a:off x="228600" y="1752480"/>
            <a:ext cx="6934320" cy="4419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fig07_04"/>
          <p:cNvPicPr/>
          <p:nvPr/>
        </p:nvPicPr>
        <p:blipFill>
          <a:blip r:embed="rId2"/>
          <a:srcRect l="0" t="81039" r="74144" b="5174"/>
          <a:stretch/>
        </p:blipFill>
        <p:spPr>
          <a:xfrm>
            <a:off x="6934320" y="5181480"/>
            <a:ext cx="1904760" cy="80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fig07_04"/>
          <p:cNvPicPr/>
          <p:nvPr/>
        </p:nvPicPr>
        <p:blipFill>
          <a:blip r:embed="rId3"/>
          <a:srcRect l="0" t="94672" r="0" b="-3018"/>
          <a:stretch/>
        </p:blipFill>
        <p:spPr>
          <a:xfrm>
            <a:off x="380880" y="6248520"/>
            <a:ext cx="6934320" cy="457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F964C801-6C45-4E82-B0F8-8F32C8538A65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7.5 Estimated and Projected Urban and Rural Population of the More and Less Developed Regions, 1950-20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fig07_05"/>
          <p:cNvPicPr/>
          <p:nvPr/>
        </p:nvPicPr>
        <p:blipFill>
          <a:blip r:embed="rId1"/>
          <a:srcRect l="0" t="0" r="0" b="-439"/>
          <a:stretch/>
        </p:blipFill>
        <p:spPr>
          <a:xfrm>
            <a:off x="990720" y="1647720"/>
            <a:ext cx="5943600" cy="4851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C89FA7A2-E429-4914-A0DB-8B8DE88B8E5E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gure 7.6 Annual Growth of Urban and Slum Populations, 1990-2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fig07_06"/>
          <p:cNvPicPr/>
          <p:nvPr/>
        </p:nvPicPr>
        <p:blipFill>
          <a:blip r:embed="rId1"/>
          <a:srcRect l="0" t="0" r="0" b="-119"/>
          <a:stretch/>
        </p:blipFill>
        <p:spPr>
          <a:xfrm>
            <a:off x="914400" y="1676520"/>
            <a:ext cx="5638680" cy="4724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304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Copyright © 2009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8161200" y="6369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199"/>
                </a:solidFill>
                <a:latin typeface="Arial"/>
              </a:rPr>
              <a:t>7-</a:t>
            </a:r>
            <a:fld id="{951B1A32-CF6C-47D4-A282-EE7DFA84E959}" type="slidenum">
              <a:rPr b="1" lang="en-US" sz="1800" spc="-1" strike="noStrike">
                <a:solidFill>
                  <a:srgbClr val="faf199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7360" y="204480"/>
            <a:ext cx="72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ole of C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lomeration economies, Urbanization economies, Localization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 urban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19:07:00Z</dcterms:created>
  <dc:creator>Michael P. Todaro</dc:creator>
  <dc:description/>
  <dc:language>en-US</dc:language>
  <cp:lastModifiedBy>abu shonchoy</cp:lastModifiedBy>
  <dcterms:modified xsi:type="dcterms:W3CDTF">2012-01-17T08:25:30Z</dcterms:modified>
  <cp:revision>109</cp:revision>
  <dc:subject>Urbanization and Rural-Urban Migration: Theory and Policy</dc:subject>
  <dc:title>Chapter 7</dc:title>
</cp:coreProperties>
</file>