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F4E5-0CA3-406D-BB34-E9A299CE6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BB14-F5B1-46A0-A423-F61E1DC8F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8300-1871-4B52-B3CB-A6A9610EB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BD90-70A4-414E-933D-E47D4A65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A7737-2783-44EC-9C3B-CCCEB20C8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C187A-CC33-40A2-82BD-B670179E01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9EEAA-F668-4098-ACA7-7F7B96907F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CDBB6-A527-427A-A500-2F2C953C1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578B-407F-493D-8B4C-04655AECE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5C3A4-70D2-45F0-A20B-D8013773A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2A503-FEC5-4E1B-8378-7AC0CF137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4293-CD73-4DC7-8FF1-6190DA14BB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629F5-7011-45C2-B4D0-7983A14D0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9181F-2DCF-49C0-B087-00540C0BE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4DAA-0162-4658-9CE6-BF49AEFBE4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41F45-B408-4758-AB5A-008BA1E3B2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odaroCover-detail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391520" y="0"/>
            <a:ext cx="1752480" cy="15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839080" y="1447920"/>
            <a:ext cx="304920" cy="533376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8634240" y="1600200"/>
            <a:ext cx="381240" cy="48006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800600"/>
              <a:gd name="textAreaBottom" fmla="*/ 4782240 h 4800600"/>
            </a:gdLst>
            <a:ahLst/>
            <a:rect l="textAreaLeft" t="textAreaTop" r="textAreaRight" b="textAreaBottom"/>
            <a:pathLst>
              <a:path w="21600" h="271752">
                <a:moveTo>
                  <a:pt x="3600" y="0"/>
                </a:moveTo>
                <a:arcTo wR="3600" hR="3600" stAng="16200000" swAng="-5400000"/>
                <a:lnTo>
                  <a:pt x="0" y="268152"/>
                </a:lnTo>
                <a:arcTo wR="3600" hR="3600" stAng="10800000" swAng="-5400000"/>
                <a:lnTo>
                  <a:pt x="18000" y="271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53280" y="640080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8153280" y="6629400"/>
            <a:ext cx="990720" cy="22860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af1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D89E1C6F-2AA0-4DCB-90C5-1F210A9E1A5B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af199"/>
                </a:solidFill>
                <a:latin typeface="Arial"/>
              </a:rPr>
              <a:t>Copyright © 2009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aw-logo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odaroCover-RGB06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4148280" y="609480"/>
            <a:ext cx="43686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205920"/>
            <a:ext cx="373356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d81b"/>
                </a:solidFill>
                <a:latin typeface="Arial"/>
              </a:rPr>
              <a:t>Micro-fi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2362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d81b"/>
                </a:solidFill>
                <a:latin typeface="Arial"/>
              </a:rPr>
              <a:t>Micro-credi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d81b"/>
                </a:solidFill>
                <a:latin typeface="Arial"/>
              </a:rPr>
              <a:t>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in the developing countries are generally excluded from the formal bank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and donor provided supports are proven to be bad and created negative incen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edit available to them is mostly from personal souses or from “loan-shark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usually don’t have collateral which can be used against financing the cred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banks do not have enough information about the borrower to finance. i.e. “Information Asymme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ridge this gap, micro-finance was inv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ro-fi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requirement for collate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novative "group-lending" contracts. Group-lending contracts effectively make a borrower's neighbors co-signers to loans, mitigating problems created by informational asymmetries between lender and borrowe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ighbors now have incentives to monitor each other and to exclude risky borrowers from participation, promoting repayments even in the absence of collateral requirement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ekly small repayment to have discipli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Women’s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フッター プレースホルダ 3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スライド番号プレースホルダ 4"/>
          <p:cNvSpPr/>
          <p:nvPr/>
        </p:nvSpPr>
        <p:spPr>
          <a:xfrm>
            <a:off x="7596360" y="6597720"/>
            <a:ext cx="1090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628E-6027-45C2-A207-0CBA6254CE95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971640" y="1476360"/>
            <a:ext cx="7172280" cy="5381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alatino Linotype"/>
              </a:rPr>
              <a:t>GUK’s staff and our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フッター プレースホルダ 3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スライド番号プレースホルダ 4"/>
          <p:cNvSpPr/>
          <p:nvPr/>
        </p:nvSpPr>
        <p:spPr>
          <a:xfrm>
            <a:off x="7596360" y="6597720"/>
            <a:ext cx="10904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F09B-5D43-46DE-82D5-F473E3C6E6B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900000" y="1258920"/>
            <a:ext cx="745992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s of Micro-fi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Repayment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teral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44505083-FD88-4846-A399-52F4041FBC0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cro-finance miracle??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repayment rates in almost all cases above 95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ed towards women: The programs have also proven able to reach poor individuals, particularly women, that have been difficult to reach through alternative approach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ing Poor: Based on land holding criterion, those who have more that 0.5 decimals of land will be precluded from the credit acc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9DC3B840-AEF8-4789-9D26-FE5437EEAB7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ipline in the micro-finance borro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ly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ly re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d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defaults, no future credit acces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multiple borrowing would be accepted from other N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9-</a:t>
            </a:r>
            <a:fld id="{FA25899C-60E0-4DCD-8F7F-AA2A155A8DB4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itic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profit out of poverty, is it ethic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idy or not subsi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 loan and donor 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 –su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 rig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reaching the “poorest of the po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n used for consumption smoo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one has entrepreneurial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GOs allowed to work as financing institu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14:44:28Z</dcterms:created>
  <dc:creator>Michael P. Todaro</dc:creator>
  <dc:description/>
  <dc:language>en-US</dc:language>
  <cp:lastModifiedBy>abu shonchoy</cp:lastModifiedBy>
  <dcterms:modified xsi:type="dcterms:W3CDTF">2011-12-14T04:02:54Z</dcterms:modified>
  <cp:revision>103</cp:revision>
  <dc:subject>Agricultural Transformation and Rural Development</dc:subject>
  <dc:title>Chapter 9</dc:title>
</cp:coreProperties>
</file>