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7F9C-6890-4DC0-8F8F-F7E64D0A4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3262-CD78-470A-9DFF-7BBB5F996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9CAD0-2735-462E-847A-C78E12B24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DE84E-793E-4B0E-BA68-31E643F49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BFEB1-2024-451A-B264-8C50C98F2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40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94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40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94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5A78A-C2DE-4C09-BAE9-EAAB0C487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7360" y="204480"/>
            <a:ext cx="727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D54F3-DDE2-4859-BE1B-2B60A7BCB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140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94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140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94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E17C6-ED69-4D88-A0B8-3A39C4D14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50977-982D-47C0-BDE5-F54EA9D40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79CC5-39A7-4566-AD49-A7DFC4F97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7360" y="204480"/>
            <a:ext cx="727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0E382-3805-4C5A-B932-8530CBB30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A4AFA-9A90-4F47-9BF0-A8C620283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D2531-F161-4B2E-8DE9-1534368A0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BA5BC-090A-48EB-831D-639AC5A4A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odaroCover-detail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391520" y="0"/>
            <a:ext cx="1752480" cy="15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839080" y="1447920"/>
            <a:ext cx="304920" cy="5333760"/>
          </a:xfrm>
          <a:prstGeom prst="rect">
            <a:avLst/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8"/>
          <p:cNvSpPr/>
          <p:nvPr/>
        </p:nvSpPr>
        <p:spPr>
          <a:xfrm>
            <a:off x="8634240" y="1600200"/>
            <a:ext cx="381240" cy="48006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800600"/>
              <a:gd name="textAreaBottom" fmla="*/ 4782240 h 4800600"/>
            </a:gdLst>
            <a:ahLst/>
            <a:rect l="textAreaLeft" t="textAreaTop" r="textAreaRight" b="textAreaBottom"/>
            <a:pathLst>
              <a:path w="21600" h="271752">
                <a:moveTo>
                  <a:pt x="3600" y="0"/>
                </a:moveTo>
                <a:arcTo wR="3600" hR="3600" stAng="16200000" swAng="-5400000"/>
                <a:lnTo>
                  <a:pt x="0" y="268152"/>
                </a:lnTo>
                <a:arcTo wR="3600" hR="3600" stAng="10800000" swAng="-5400000"/>
                <a:lnTo>
                  <a:pt x="18000" y="271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9"/>
          <p:cNvSpPr/>
          <p:nvPr/>
        </p:nvSpPr>
        <p:spPr>
          <a:xfrm>
            <a:off x="8153280" y="640080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8153280" y="6629400"/>
            <a:ext cx="990720" cy="228600"/>
          </a:xfrm>
          <a:prstGeom prst="rect">
            <a:avLst/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af1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0B88A2DF-1F7C-450B-8B28-AB80CAB02B44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af199"/>
                </a:solidFill>
                <a:latin typeface="Arial"/>
              </a:rPr>
              <a:t>Copyright © 2009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aw-logo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TodaroCover-RGB06"/>
          <p:cNvPicPr/>
          <p:nvPr/>
        </p:nvPicPr>
        <p:blipFill>
          <a:blip r:embed="rId3">
            <a:lum bright="-4000"/>
          </a:blip>
          <a:stretch/>
        </p:blipFill>
        <p:spPr>
          <a:xfrm>
            <a:off x="4148280" y="609480"/>
            <a:ext cx="4368600" cy="5486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590920"/>
            <a:ext cx="3733920" cy="116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d81b"/>
                </a:solidFill>
                <a:latin typeface="Arial"/>
              </a:rPr>
              <a:t>Environment and</a:t>
            </a:r>
            <a:br>
              <a:rPr sz="4000"/>
            </a:br>
            <a:r>
              <a:rPr b="1" lang="en-US" sz="4000" spc="-1" strike="noStrike">
                <a:solidFill>
                  <a:srgbClr val="c0d81b"/>
                </a:solidFill>
                <a:latin typeface="Arial"/>
              </a:rPr>
              <a:t>Develop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ral development and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DC24AB86-7A9E-4871-90C0-101E454E3C85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143000" y="1851120"/>
            <a:ext cx="6477120" cy="43783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rbanization and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9B3D98AE-552D-45D7-BD7C-55999DB23908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346040" y="1676520"/>
            <a:ext cx="619776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obal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F3403226-262A-4900-AC27-E34C849DB42B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219320" y="1668600"/>
            <a:ext cx="6400800" cy="4698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blic prop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blic Good: anything that provides a benefit to everyone and the availability of which is in no way diminishes by its simultaneous enjoyment by ot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blic Bad: any product or condition that decreases the well being of others in a non-exhaustive mann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ce individuals do not pay the full cost associated with their action, too much public bad will be produc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FE22417F-0B66-4955-AAE1-9FE16085CB12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per resource pric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munity Involve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rer property rights and recourses ownershi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grams to improve economic alternatives to po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sing economic status of wom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dustrial emission abatement poli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active stance toward climate change and environmental degrad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7BD46EEC-4183-4ECC-99AE-A3BDA3DF34F2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240" y="17524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 basis issues define the environment of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ncept of sustainable development and linkages between the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and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ral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banization,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Global econom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stainable Develop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Meeting the needs of present generation without compromising the needs of future gener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 economist, a development path is sustainable 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“if and only if the stock of overall capital assets remains constant or rises over time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7E6354A6-35A1-45C2-A1D9-8A324360E977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Environmental Accounting or Green accoun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pital asset should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- Manufacturing Capital (machines, factories, ro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- Human Capital (Knowledge, experience, skills)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- Environmental Capital (Forests, Soil Quality, Rangeland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63F3C3CA-3271-470B-8746-D80B2C73A191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Net National In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ustainable Net National Income (NNI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e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= depreciation of manufactured capital asst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= is depreciation of environmental ca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E3353866-E09F-4B36-B33F-82394E16BE17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2"/>
              <p:cNvSpPr txBox="1"/>
              <p:nvPr/>
            </p:nvSpPr>
            <p:spPr>
              <a:xfrm>
                <a:off x="2209680" y="2362320"/>
                <a:ext cx="381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NI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GN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and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80880" y="60958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Borneo (Malay: </a:t>
            </a:r>
            <a:r>
              <a:rPr b="0" i="1" lang="en-US" sz="1400" spc="-1" strike="noStrike">
                <a:solidFill>
                  <a:srgbClr val="1c1c1c"/>
                </a:solidFill>
                <a:latin typeface="Arial"/>
              </a:rPr>
              <a:t>Borneo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, Indonesian: </a:t>
            </a:r>
            <a:r>
              <a:rPr b="0" i="1" lang="en-US" sz="1400" spc="-1" strike="noStrike">
                <a:solidFill>
                  <a:srgbClr val="1c1c1c"/>
                </a:solidFill>
                <a:latin typeface="Arial"/>
              </a:rPr>
              <a:t>Kalimantan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) is the third largest island in the world and is located north of Java Island, Indonesia, at the geographic centre of Maritime Southeast As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D0EDD03C-725E-46D2-AA00-8CEE16419DCA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591160" cy="44323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verty and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3760" y="2209680"/>
            <a:ext cx="5046840" cy="3733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952520" y="1905120"/>
            <a:ext cx="3962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degradation and high fertility go hand in hand, they are both direct outgrowths of a third factor, absolute poverty. Environmental policy will not work until we tackle pove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FD757FCB-1129-4C8B-AA96-398B0C3B6250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 faced in developing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2CCDCD04-5D2C-40D3-904A-98D9C00DF7B2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access of clean water and san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air-pollution (use of bio-mas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ores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soil degra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zardous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bio-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wth vs.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85680" y="60199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y evidence of Environmental Kuznets curve (inverted U-shape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3BC60632-1169-4BFA-8F43-E8F476922942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6400800" cy="4240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4:44:28Z</dcterms:created>
  <dc:creator>Michael P. Todaro</dc:creator>
  <dc:description/>
  <dc:language>en-US</dc:language>
  <cp:lastModifiedBy>abu shonchoy</cp:lastModifiedBy>
  <dcterms:modified xsi:type="dcterms:W3CDTF">2012-01-18T03:57:39Z</dcterms:modified>
  <cp:revision>129</cp:revision>
  <dc:subject>Agricultural Transformation and Rural Development</dc:subject>
  <dc:title>Chapter 9</dc:title>
</cp:coreProperties>
</file>